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C81-5472-4455-A78C-D37D7E47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CBD-8EFC-4420-969C-3DE003C0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BEF-4D42-4D69-ABFA-3B8FAE32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9F9-6C9B-4443-8E43-CF7714E0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1613-E52D-4317-BCE0-B09E57F6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BAB0-1DD2-45DD-A0A3-38D52D12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8E76-2CF5-4993-8E88-C3BB0E71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8683-ED02-4199-939B-7656D397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DFB0-3D97-4A93-9A73-9C1E9484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CC1F-C6A4-4C15-A6ED-39D56AB0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CB20-B6A1-43DF-B530-5FC6442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743-3FA3-4A6B-86C5-C8CF924E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BE85-085D-4541-BD5C-2E8B4173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A0B6-A2B6-4C0E-9C9D-DA24411C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F233-2013-4E66-AF83-A2655E4C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0FC7-3E45-4721-9ACC-A4B5D395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7F44-5D99-4A73-B581-3B0C20BA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66F-E4F0-450B-96D9-9F18A644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166-AB06-4C8D-A154-5DA3BE6C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6A5-9F13-47E5-85D6-9FE87B7B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C6F-B721-470D-8161-C55B140E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0EA-340B-4149-89C8-79BA9FB7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3BE-146F-4AAF-BBA6-1F2AA990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F53-AAD1-475C-83E3-55A2ABD7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8B56-D586-4039-AE34-AF17C554ED0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DE6A-9A79-4E92-BD27-AD161624CDB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1052280"/>
            <a:ext cx="74120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egunda Conferencia de Real Estate Club Europeo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2565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ahoma"/>
              </a:rPr>
              <a:t>Coyuntura y Perspectivas del Merc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Dr. Roberto Le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Inmobiliaria Bullrich S.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84720" y="5734080"/>
            <a:ext cx="282924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Comportamiento del Mercado en el ùltimo año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ctor Residencial Urbano y Sub-urb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ctor de Oficinas en Urbano y Sub-urb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ctor Ret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terior del paì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84720" y="5734080"/>
            <a:ext cx="282924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pectivas del Mercado</a:t>
            </a:r>
            <a:br>
              <a:rPr sz="3200"/>
            </a:b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2204640"/>
            <a:ext cx="75438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¿Hacia dònde van los precio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¿El Mercado Residencial està satura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¿Còmo se comportarà la oferta de espacio de oficin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84720" y="5734080"/>
            <a:ext cx="282924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pectivas del Mercado</a:t>
            </a:r>
            <a:br>
              <a:rPr sz="3200"/>
            </a:b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Què zonas presentan la mayor oportunidad de crecimiento en la Capit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El interior del paìs, un mercado todavìa poco explota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Cùal es el clima actual en el mercado inmobiliar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5734080"/>
            <a:ext cx="282924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4:33:19Z</dcterms:created>
  <dc:creator>bendeck</dc:creator>
  <dc:description/>
  <dc:language>en-US</dc:language>
  <cp:lastModifiedBy>bendeck</cp:lastModifiedBy>
  <dcterms:modified xsi:type="dcterms:W3CDTF">2007-08-16T15:17:15Z</dcterms:modified>
  <cp:revision>7</cp:revision>
  <dc:subject/>
  <dc:title>Segunda Conferencia de Real Estate Club Europeo</dc:title>
</cp:coreProperties>
</file>