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5cb2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7DED-22D3-4722-BD2A-9D6DCDD2F0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500 millones de euros – generaron acuerdos comerciales y de inversión (total 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56 millones euros – generaron acuerdos comerciales y de inversión (empresas argentin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A: Norteamérica, SA: Sudamérica, CAC: Centroamérica-Ca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NA: Norteamérica, SA: Sudamérica, CAC: Centroamérica-Ca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AC2C-C0FD-43B9-8539-EF6D24991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7772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90520" y="3758040"/>
            <a:ext cx="7772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1FE9-A124-4AF3-A1A4-FC8408B23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3792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3200" y="1125000"/>
            <a:ext cx="3792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90520" y="3758040"/>
            <a:ext cx="3792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3200" y="3758040"/>
            <a:ext cx="3792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9008-724B-4F8A-ABD0-927CAF430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25023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8520" y="1125000"/>
            <a:ext cx="25023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6160" y="1125000"/>
            <a:ext cx="25023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90520" y="3758040"/>
            <a:ext cx="25023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8520" y="3758040"/>
            <a:ext cx="25023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6160" y="3758040"/>
            <a:ext cx="25023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7D7E-53D6-4916-819A-044172695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9052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B844-5374-4F50-9729-2C89FFB46D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A221-B450-4972-8479-9285B346F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3792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3200" y="1125000"/>
            <a:ext cx="3792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AD88-8D3A-404F-A0D4-9E90227DA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2A78-530C-4EF7-AAFE-65D55A007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92320" y="1886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A352-EADF-4BEF-9E24-DD6C4ECA4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3792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3200" y="1125000"/>
            <a:ext cx="3792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90520" y="3758040"/>
            <a:ext cx="3792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5D71-46DD-413C-8EBB-CC80C6032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3792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3200" y="1125000"/>
            <a:ext cx="3792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3200" y="3758040"/>
            <a:ext cx="3792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4E77-BA8B-4185-A92C-5AF902750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3792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3200" y="1125000"/>
            <a:ext cx="3792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90520" y="3758040"/>
            <a:ext cx="7772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7818-67A5-4C05-BC04-80F3F98B8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9052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15c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15c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99c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5cb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59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99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4D96-F750-48FC-BAD0-91FB2FC76F78}" type="slidenum">
              <a:rPr b="0" lang="en-GB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52560" cy="6858000"/>
            <a:chOff x="0" y="0"/>
            <a:chExt cx="952560" cy="6858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5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6200000">
              <a:off x="-2072160" y="3815280"/>
              <a:ext cx="519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Verdana"/>
                </a:rPr>
                <a:t>Delegación de la Comisión Europea en Argent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763640" y="260280"/>
            <a:ext cx="6624720" cy="6248520"/>
            <a:chOff x="1763640" y="260280"/>
            <a:chExt cx="6624720" cy="6248520"/>
          </a:xfrm>
        </p:grpSpPr>
        <p:sp>
          <p:nvSpPr>
            <p:cNvPr id="50" name=""/>
            <p:cNvSpPr/>
            <p:nvPr/>
          </p:nvSpPr>
          <p:spPr>
            <a:xfrm>
              <a:off x="1763640" y="3460680"/>
              <a:ext cx="685800" cy="685800"/>
            </a:xfrm>
            <a:prstGeom prst="star5">
              <a:avLst/>
            </a:prstGeom>
            <a:gradFill rotWithShape="0">
              <a:gsLst>
                <a:gs pos="0">
                  <a:srgbClr val="e2c444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86560" y="2022480"/>
              <a:ext cx="685800" cy="685800"/>
            </a:xfrm>
            <a:prstGeom prst="star5">
              <a:avLst/>
            </a:prstGeom>
            <a:gradFill rotWithShape="0">
              <a:gsLst>
                <a:gs pos="0">
                  <a:srgbClr val="e2c444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92240" y="2012760"/>
              <a:ext cx="685800" cy="685800"/>
            </a:xfrm>
            <a:prstGeom prst="star5">
              <a:avLst/>
            </a:prstGeom>
            <a:gradFill rotWithShape="0">
              <a:gsLst>
                <a:gs pos="0">
                  <a:srgbClr val="e2c444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93080" y="4686120"/>
              <a:ext cx="685800" cy="685800"/>
            </a:xfrm>
            <a:prstGeom prst="star5">
              <a:avLst/>
            </a:prstGeom>
            <a:gradFill rotWithShape="0">
              <a:gsLst>
                <a:gs pos="0">
                  <a:srgbClr val="e2c444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06640" y="869760"/>
              <a:ext cx="685800" cy="685800"/>
            </a:xfrm>
            <a:prstGeom prst="star5">
              <a:avLst/>
            </a:prstGeom>
            <a:gradFill rotWithShape="0">
              <a:gsLst>
                <a:gs pos="0">
                  <a:srgbClr val="e2c444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07040" y="5518080"/>
              <a:ext cx="685800" cy="685800"/>
            </a:xfrm>
            <a:prstGeom prst="star5">
              <a:avLst/>
            </a:prstGeom>
            <a:gradFill rotWithShape="0">
              <a:gsLst>
                <a:gs pos="0">
                  <a:srgbClr val="e2c444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73480" y="4680000"/>
              <a:ext cx="685800" cy="685800"/>
            </a:xfrm>
            <a:prstGeom prst="star5">
              <a:avLst/>
            </a:prstGeom>
            <a:gradFill rotWithShape="0">
              <a:gsLst>
                <a:gs pos="0">
                  <a:srgbClr val="e2c444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59480" y="260280"/>
              <a:ext cx="685800" cy="685800"/>
            </a:xfrm>
            <a:prstGeom prst="star5">
              <a:avLst/>
            </a:prstGeom>
            <a:gradFill rotWithShape="0">
              <a:gsLst>
                <a:gs pos="0">
                  <a:srgbClr val="e2c444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11960" y="869760"/>
              <a:ext cx="685800" cy="685800"/>
            </a:xfrm>
            <a:prstGeom prst="star5">
              <a:avLst/>
            </a:prstGeom>
            <a:gradFill rotWithShape="0">
              <a:gsLst>
                <a:gs pos="0">
                  <a:srgbClr val="e2c444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2560" y="3500280"/>
              <a:ext cx="685800" cy="685800"/>
            </a:xfrm>
            <a:prstGeom prst="star5">
              <a:avLst/>
            </a:prstGeom>
            <a:gradFill rotWithShape="0">
              <a:gsLst>
                <a:gs pos="0">
                  <a:srgbClr val="e2c444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59480" y="5823000"/>
              <a:ext cx="685800" cy="685800"/>
            </a:xfrm>
            <a:prstGeom prst="star5">
              <a:avLst/>
            </a:prstGeom>
            <a:gradFill rotWithShape="0">
              <a:gsLst>
                <a:gs pos="0">
                  <a:srgbClr val="e2c444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87880" y="5518080"/>
              <a:ext cx="685800" cy="685800"/>
            </a:xfrm>
            <a:prstGeom prst="star5">
              <a:avLst/>
            </a:prstGeom>
            <a:gradFill rotWithShape="0">
              <a:gsLst>
                <a:gs pos="0">
                  <a:srgbClr val="e2c444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35280" y="177300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15cb2"/>
                </a:solidFill>
                <a:latin typeface="Verdana"/>
              </a:rPr>
              <a:t>Comercio e Inversión</a:t>
            </a:r>
            <a:br>
              <a:rPr sz="3200"/>
            </a:br>
            <a:r>
              <a:rPr b="1" lang="es-AR" sz="3200" spc="-1" strike="noStrike">
                <a:solidFill>
                  <a:srgbClr val="015cb2"/>
                </a:solidFill>
                <a:latin typeface="Verdana"/>
              </a:rPr>
              <a:t>UE-Argentina</a:t>
            </a:r>
            <a:br>
              <a:rPr sz="3200"/>
            </a:br>
            <a:r>
              <a:rPr b="1" lang="es-AR" sz="2000" spc="-1" strike="noStrike">
                <a:solidFill>
                  <a:srgbClr val="015cb2"/>
                </a:solidFill>
                <a:latin typeface="Verdana"/>
              </a:rPr>
              <a:t>Oportunidades y Desafíos</a:t>
            </a:r>
            <a:endParaRPr b="1" lang="en-US" sz="20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834920" y="3645000"/>
            <a:ext cx="6337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15cb2"/>
                </a:solidFill>
                <a:latin typeface="Verdana"/>
              </a:rPr>
              <a:t>Matthias </a:t>
            </a:r>
            <a:r>
              <a:rPr b="1" lang="en-US" sz="1800" spc="-1" strike="noStrike">
                <a:solidFill>
                  <a:srgbClr val="015cb2"/>
                </a:solidFill>
                <a:latin typeface="Verdana"/>
              </a:rPr>
              <a:t>Jørgensen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5cb2"/>
                </a:solidFill>
                <a:latin typeface="Verdana"/>
              </a:rPr>
              <a:t>Consejero Económico y Comercial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5cb2"/>
                </a:solidFill>
                <a:latin typeface="Verdana"/>
              </a:rPr>
              <a:t>Delegación de la Comisión Europea en Argentina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179e7"/>
                </a:solidFill>
                <a:latin typeface="Verdana"/>
              </a:rPr>
              <a:t>Mayo de 2007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15cb2"/>
                </a:solidFill>
                <a:latin typeface="Verdana"/>
              </a:rPr>
              <a:t>Diversificar el comercio y las inversiones</a:t>
            </a:r>
            <a:endParaRPr b="1" lang="en-US" sz="32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90520" y="177300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15cb2"/>
                </a:solidFill>
                <a:latin typeface="Verdana"/>
              </a:rPr>
              <a:t>Diversificación sectorial</a:t>
            </a:r>
            <a:r>
              <a:rPr b="0" lang="es-AR" sz="3200" spc="-1" strike="noStrike">
                <a:solidFill>
                  <a:srgbClr val="003366"/>
                </a:solidFill>
                <a:latin typeface="Verdana"/>
              </a:rPr>
              <a:t>: 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15cb2"/>
                </a:solidFill>
                <a:latin typeface="Verdana"/>
              </a:rPr>
              <a:t>Servicios</a:t>
            </a:r>
            <a:endParaRPr b="1" lang="en-US" sz="28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15cb2"/>
                </a:solidFill>
                <a:latin typeface="Verdana"/>
              </a:rPr>
              <a:t>Productos de tecnología</a:t>
            </a:r>
            <a:endParaRPr b="1" lang="en-US" sz="28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15cb2"/>
                </a:solidFill>
                <a:latin typeface="Verdana"/>
              </a:rPr>
              <a:t>Productos con valor agregado</a:t>
            </a:r>
            <a:endParaRPr b="1" lang="en-US" sz="2800" spc="-1" strike="noStrike">
              <a:solidFill>
                <a:srgbClr val="015cb2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15cb2"/>
                </a:solidFill>
                <a:latin typeface="Verdana"/>
              </a:rPr>
              <a:t>Diversificación actores</a:t>
            </a:r>
            <a:r>
              <a:rPr b="0" lang="es-AR" sz="3200" spc="-1" strike="noStrike">
                <a:solidFill>
                  <a:srgbClr val="003366"/>
                </a:solidFill>
                <a:latin typeface="Verdana"/>
              </a:rPr>
              <a:t>: pymes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15cb2"/>
                </a:solidFill>
                <a:latin typeface="Verdana"/>
              </a:rPr>
              <a:t>Mayor integración regional</a:t>
            </a:r>
            <a:endParaRPr b="1" lang="en-US" sz="32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3366"/>
                </a:solidFill>
                <a:latin typeface="Verdana"/>
              </a:rPr>
              <a:t>Indispensable avanzar en la integración regional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3366"/>
                </a:solidFill>
                <a:latin typeface="Verdana"/>
              </a:rPr>
              <a:t>Impulso en los siguientes aspectos: 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15cb2"/>
                </a:solidFill>
                <a:latin typeface="Verdana"/>
              </a:rPr>
              <a:t>perfeccionar la unión aduanera</a:t>
            </a:r>
            <a:endParaRPr b="1" lang="en-US" sz="26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15cb2"/>
                </a:solidFill>
                <a:latin typeface="Verdana"/>
              </a:rPr>
              <a:t>Un verdadero mercado interno - libre circulación de bienes, servicios y personas</a:t>
            </a:r>
            <a:endParaRPr b="1" lang="en-US" sz="26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15cb2"/>
                </a:solidFill>
                <a:latin typeface="Verdana"/>
              </a:rPr>
              <a:t>aduanas</a:t>
            </a:r>
            <a:endParaRPr b="1" lang="en-US" sz="26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15cb2"/>
                </a:solidFill>
                <a:latin typeface="Verdana"/>
              </a:rPr>
              <a:t>estándares técnicos</a:t>
            </a:r>
            <a:endParaRPr b="1" lang="en-US" sz="26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15cb2"/>
                </a:solidFill>
                <a:latin typeface="Verdana"/>
              </a:rPr>
              <a:t>reglas veterinarias y fitosanitarias</a:t>
            </a:r>
            <a:r>
              <a:rPr b="0" lang="en-GB" sz="2600" spc="-1" strike="noStrike">
                <a:solidFill>
                  <a:srgbClr val="015cb2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15cb2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15cb2"/>
                </a:solidFill>
                <a:latin typeface="Verdana"/>
              </a:rPr>
              <a:t>Negociaciones UE-Mercosur</a:t>
            </a:r>
            <a:endParaRPr b="1" lang="en-US" sz="32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9052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Verdana"/>
              </a:rPr>
              <a:t>Apertura mutua de mercados. Bienes agricolas e industriales, servicios, inversiones, estandars SPS/TBT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Verdana"/>
              </a:rPr>
              <a:t>Confianza de largo plazo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Verdana"/>
              </a:rPr>
              <a:t>Inversiones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Verdana"/>
              </a:rPr>
              <a:t>Mucho más que un área de libre comercio.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Verdana"/>
              </a:rPr>
              <a:t>Acuerdo ambicioso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632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15cb2"/>
                </a:solidFill>
                <a:latin typeface="Verdana"/>
              </a:rPr>
              <a:t>OMC/Ronda de Doha</a:t>
            </a: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92360" y="1844280"/>
            <a:ext cx="72705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3366"/>
                </a:solidFill>
                <a:latin typeface="Verdana"/>
              </a:rPr>
              <a:t>Bienes industriales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3366"/>
                </a:solidFill>
                <a:latin typeface="Verdana"/>
              </a:rPr>
              <a:t>Bienes agrícolas y indicaciones geográficas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3366"/>
                </a:solidFill>
                <a:latin typeface="Verdana"/>
              </a:rPr>
              <a:t>Reglas: facilitación del comercio, antidumping, AS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3366"/>
                </a:solidFill>
                <a:latin typeface="Verdana"/>
              </a:rPr>
              <a:t>Servicios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3366"/>
                </a:solidFill>
                <a:latin typeface="Verdana"/>
              </a:rPr>
              <a:t>Intensificar relaciones bilaterales</a:t>
            </a:r>
            <a:endParaRPr b="1" lang="en-US" sz="4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66"/>
                </a:solidFill>
                <a:latin typeface="Verdana"/>
              </a:rPr>
              <a:t>Diálogos sobre políticas (por ejemplo:</a:t>
            </a:r>
            <a:r>
              <a:rPr b="1" lang="es-AR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15cb2"/>
                </a:solidFill>
                <a:latin typeface="Verdana"/>
              </a:rPr>
              <a:t>Diálogo económico y financiero</a:t>
            </a:r>
            <a:endParaRPr b="1" lang="en-US" sz="24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15cb2"/>
                </a:solidFill>
                <a:latin typeface="Verdana"/>
              </a:rPr>
              <a:t>Tecnología y sociedad de la Información – TV Digital</a:t>
            </a:r>
            <a:endParaRPr b="1" lang="en-US" sz="24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15cb2"/>
                </a:solidFill>
                <a:latin typeface="Verdana"/>
              </a:rPr>
              <a:t>Navegación satelital (GALILEO)</a:t>
            </a:r>
            <a:endParaRPr b="1" lang="en-US" sz="24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15cb2"/>
                </a:solidFill>
                <a:latin typeface="Verdana"/>
              </a:rPr>
              <a:t>Energía</a:t>
            </a:r>
            <a:endParaRPr b="1" lang="en-US" sz="24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15cb2"/>
                </a:solidFill>
                <a:latin typeface="Verdana"/>
              </a:rPr>
              <a:t>Cultura y educación</a:t>
            </a:r>
            <a:endParaRPr b="1" lang="en-US" sz="24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15cb2"/>
                </a:solidFill>
                <a:latin typeface="Verdana"/>
              </a:rPr>
              <a:t>Derechos humanos</a:t>
            </a:r>
            <a:endParaRPr b="1" lang="en-US" sz="2400" spc="-1" strike="noStrike">
              <a:solidFill>
                <a:srgbClr val="015cb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15cb2"/>
                </a:solidFill>
                <a:latin typeface="Verdana"/>
              </a:rPr>
              <a:t>Apoyo UE a Argentina 2007-2013 (65 Milliones de euros)</a:t>
            </a: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66"/>
                </a:solidFill>
                <a:latin typeface="Verdana"/>
              </a:rPr>
              <a:t>Educación</a:t>
            </a: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66"/>
                </a:solidFill>
                <a:latin typeface="Verdana"/>
              </a:rPr>
              <a:t>Mejora de la competividad de los pymes argentinos</a:t>
            </a: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66"/>
                </a:solidFill>
                <a:latin typeface="Verdana"/>
              </a:rPr>
              <a:t>Dialogos sobre politicas </a:t>
            </a: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66"/>
                </a:solidFill>
                <a:latin typeface="Verdana"/>
              </a:rPr>
              <a:t>Erasmus mundus/Becas</a:t>
            </a:r>
            <a:r>
              <a:rPr b="1" lang="es-AR" sz="20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2000"/>
            </a:br>
            <a:r>
              <a:rPr b="1" lang="en-GB" sz="36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3600"/>
            </a:br>
            <a:r>
              <a:rPr b="1" lang="es-AR" sz="20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66"/>
                </a:solidFill>
                <a:latin typeface="Verdana"/>
              </a:rPr>
              <a:t>Diálogos sobre políticas:</a:t>
            </a:r>
            <a:r>
              <a:rPr b="1" lang="es-AR" sz="32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15cb2"/>
                </a:solidFill>
                <a:latin typeface="Verdana"/>
              </a:rPr>
              <a:t>Diálogo económico y financiero</a:t>
            </a:r>
            <a:endParaRPr b="1" lang="en-US" sz="28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15cb2"/>
                </a:solidFill>
                <a:latin typeface="Verdana"/>
              </a:rPr>
              <a:t>Tecnología y sociedad de la Información – TV Digital</a:t>
            </a:r>
            <a:endParaRPr b="1" lang="en-US" sz="28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15cb2"/>
                </a:solidFill>
                <a:latin typeface="Verdana"/>
              </a:rPr>
              <a:t>Navegación satelital (GALILEO)</a:t>
            </a:r>
            <a:endParaRPr b="1" lang="en-US" sz="28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15cb2"/>
                </a:solidFill>
                <a:latin typeface="Verdana"/>
              </a:rPr>
              <a:t>Energía</a:t>
            </a:r>
            <a:endParaRPr b="1" lang="en-US" sz="28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15cb2"/>
                </a:solidFill>
                <a:latin typeface="Verdana"/>
              </a:rPr>
              <a:t>Cultura y educación</a:t>
            </a:r>
            <a:endParaRPr b="1" lang="en-US" sz="2800" spc="-1" strike="noStrike">
              <a:solidFill>
                <a:srgbClr val="015cb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15cb2"/>
                </a:solidFill>
                <a:latin typeface="Verdana"/>
              </a:rPr>
              <a:t>Derechos humanos</a:t>
            </a:r>
            <a:endParaRPr b="1" lang="en-US" sz="2800" spc="-1" strike="noStrike">
              <a:solidFill>
                <a:srgbClr val="015cb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15cb2"/>
                </a:solidFill>
                <a:latin typeface="Verdana"/>
              </a:rPr>
              <a:t>AL Invest </a:t>
            </a:r>
            <a:endParaRPr b="1" lang="en-US" sz="3200" spc="-1" strike="noStrike">
              <a:solidFill>
                <a:srgbClr val="015cb2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8920" y="3284640"/>
            <a:ext cx="34574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48360" y="3284640"/>
            <a:ext cx="3668760" cy="3384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332000" y="1268280"/>
            <a:ext cx="1104840" cy="9525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987640" y="907920"/>
            <a:ext cx="3809880" cy="2232000"/>
            <a:chOff x="2987640" y="907920"/>
            <a:chExt cx="3809880" cy="223200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3220560" y="907920"/>
              <a:ext cx="357696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987640" y="2061720"/>
              <a:ext cx="1425600" cy="188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69 EUROCENTR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2240" y="1249560"/>
              <a:ext cx="1266840" cy="19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189 COOPE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79160" y="2325960"/>
              <a:ext cx="887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Verdana"/>
                </a:rPr>
                <a:t>18 PAISES DE AMERICA LATI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22240" y="1539720"/>
              <a:ext cx="797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Verdana"/>
                </a:rPr>
                <a:t>25 PAI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Verdana"/>
                </a:rPr>
                <a:t>DE LA UN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Verdana"/>
                </a:rPr>
                <a:t>EUROPE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7240" y="2312280"/>
              <a:ext cx="851040" cy="4644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68960" y="1526760"/>
              <a:ext cx="800640" cy="4330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7524720" y="1268280"/>
            <a:ext cx="8953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15cb2"/>
                </a:solidFill>
                <a:latin typeface="Verdana"/>
              </a:rPr>
              <a:t>Export Helpdesk</a:t>
            </a:r>
            <a:endParaRPr b="1" lang="en-US" sz="32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5805360"/>
            <a:ext cx="7629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http://exporthelp.europa.eu/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9476" r="879" b="7874"/>
          <a:stretch/>
        </p:blipFill>
        <p:spPr>
          <a:xfrm>
            <a:off x="971640" y="981000"/>
            <a:ext cx="8028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15cb2"/>
                </a:solidFill>
                <a:latin typeface="Verdana"/>
              </a:rPr>
              <a:t>La UE es el principal socio comercial extra MERCOSUR de Argentina</a:t>
            </a:r>
            <a:endParaRPr b="1" lang="en-US" sz="28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90160" y="1125000"/>
            <a:ext cx="7558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66"/>
                </a:solidFill>
                <a:latin typeface="Verdana"/>
              </a:rPr>
              <a:t>Explica el 17-18% del flujo comercial  externo de Argentin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66"/>
                </a:solidFill>
                <a:latin typeface="Verdana"/>
              </a:rPr>
              <a:t>En 2006, el comercio con la UE ha crecido más rápido que el promedio total de Argentina (20% vs 15-19%)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34040" y="1125360"/>
          <a:ext cx="1847880" cy="24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4040" y="1125360"/>
                    <a:ext cx="184788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537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00" y="2708280"/>
          <a:ext cx="7811640" cy="2879280"/>
        </p:xfrm>
        <a:graphic>
          <a:graphicData uri="http://schemas.openxmlformats.org/drawingml/2006/table">
            <a:tbl>
              <a:tblPr/>
              <a:tblGrid>
                <a:gridCol w="841320"/>
                <a:gridCol w="547560"/>
                <a:gridCol w="586440"/>
                <a:gridCol w="547560"/>
                <a:gridCol w="546120"/>
                <a:gridCol w="619200"/>
                <a:gridCol w="620280"/>
                <a:gridCol w="547560"/>
                <a:gridCol w="586440"/>
                <a:gridCol w="546120"/>
                <a:gridCol w="549000"/>
                <a:gridCol w="655200"/>
                <a:gridCol w="618840"/>
              </a:tblGrid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ORT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o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F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3366"/>
                </a:solidFill>
                <a:latin typeface="Verdana"/>
              </a:rPr>
              <a:t>MUCHAS GRACIAS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15cb2"/>
                </a:solidFill>
                <a:latin typeface="Verdana"/>
              </a:rPr>
              <a:t>Comercio UE-Argentina</a:t>
            </a: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1280" y="1125000"/>
            <a:ext cx="8172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66"/>
                </a:solidFill>
                <a:latin typeface="Verdana"/>
              </a:rPr>
              <a:t>En 2006, las exportaciones Argentinas crecieron significativamente (+19%) impulsadas por bienes primarios y manufacturas de origen agropecuario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08160" y="1996920"/>
          <a:ext cx="7748640" cy="41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8160" y="1996920"/>
                    <a:ext cx="774864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15cb2"/>
                </a:solidFill>
                <a:latin typeface="Verdana"/>
              </a:rPr>
              <a:t>Comercio UE-Argentina</a:t>
            </a: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71280" y="1125000"/>
            <a:ext cx="8172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66"/>
                </a:solidFill>
                <a:latin typeface="Verdana"/>
              </a:rPr>
              <a:t>Europa es el principal comprador de manufacturas agrícolas de Argentina (30.7% del total – USD 4.7Bn)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08160" y="1992240"/>
          <a:ext cx="7748640" cy="47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8160" y="1992240"/>
                    <a:ext cx="774864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15cb2"/>
                </a:solidFill>
                <a:latin typeface="Verdana"/>
              </a:rPr>
              <a:t>Comercio UE-Argentina</a:t>
            </a: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71280" y="1125000"/>
            <a:ext cx="8172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66"/>
                </a:solidFill>
                <a:latin typeface="Verdana"/>
              </a:rPr>
              <a:t>En 2006, las importaciones crecieron (+20%) impulsadas por la demanda de bienes de capital e insumos para  la industria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208160" y="1996920"/>
          <a:ext cx="7748640" cy="41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8160" y="1996920"/>
                    <a:ext cx="774864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15cb2"/>
                </a:solidFill>
                <a:latin typeface="Verdana"/>
              </a:rPr>
              <a:t>Inversiones en Argentina</a:t>
            </a: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74138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3366"/>
                </a:solidFill>
                <a:latin typeface="Verdana"/>
              </a:rPr>
              <a:t>El 51% del stock de capital extranjero en Argentina es de empresas europeas</a:t>
            </a:r>
            <a:endParaRPr b="1" lang="en-US" sz="23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71640" y="2100240"/>
          <a:ext cx="7972200" cy="452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100240"/>
                    <a:ext cx="797220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15cb2"/>
                </a:solidFill>
                <a:latin typeface="Verdana"/>
              </a:rPr>
              <a:t>Inversiones en Argentina</a:t>
            </a: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3366"/>
                </a:solidFill>
                <a:latin typeface="Verdana"/>
              </a:rPr>
              <a:t>El 62.9% de los flujos de IED (2000-2004) fueron de empresas de la UE</a:t>
            </a:r>
            <a:endParaRPr b="1" lang="en-US" sz="23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971640" y="2100240"/>
          <a:ext cx="7972200" cy="452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100240"/>
                    <a:ext cx="797220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92320" y="1720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9052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66"/>
                </a:solidFill>
                <a:latin typeface="Verdana"/>
              </a:rPr>
              <a:t>Elementos importantes para la evolución en el futuro</a:t>
            </a:r>
            <a:r>
              <a:rPr b="1" lang="es-AR" sz="4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7c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15cb2"/>
                </a:solidFill>
                <a:latin typeface="Verdana"/>
              </a:rPr>
              <a:t>Oportunidades</a:t>
            </a:r>
            <a:endParaRPr b="1" lang="en-US" sz="3600" spc="-1" strike="noStrike">
              <a:solidFill>
                <a:srgbClr val="015cb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415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3366"/>
                </a:solidFill>
                <a:latin typeface="Verdana"/>
              </a:rPr>
              <a:t>Diversificar el comercio y las inversiones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3366"/>
                </a:solidFill>
                <a:latin typeface="Verdana"/>
              </a:rPr>
              <a:t>Integración regional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3366"/>
                </a:solidFill>
                <a:latin typeface="Verdana"/>
              </a:rPr>
              <a:t>Acuerdo UE-Mercosur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3366"/>
                </a:solidFill>
                <a:latin typeface="Verdana"/>
              </a:rPr>
              <a:t>OMC/Ronda de Doha</a:t>
            </a:r>
            <a:endParaRPr b="1" lang="en-US" sz="3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3:43:09Z</dcterms:created>
  <dc:creator>blochdi</dc:creator>
  <dc:description/>
  <dc:language>en-US</dc:language>
  <cp:lastModifiedBy>Carolina Sorondo</cp:lastModifiedBy>
  <dcterms:modified xsi:type="dcterms:W3CDTF">2007-09-25T20:18:56Z</dcterms:modified>
  <cp:revision>116</cp:revision>
  <dc:subject/>
  <dc:title>Slide 1</dc:title>
</cp:coreProperties>
</file>